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C35-6B1E-43C5-891E-236A3061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F3C-9924-497A-ABF8-AE6EBB31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AF9-268E-4449-BDB3-218BF1E5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2C7-4FAB-4875-AF55-4FFDFE81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899-5031-43A4-AFB1-CD8B1109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DEB-AAB0-4F2D-AAD5-8986A214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CF4-306A-45EB-9039-F7369644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55E-7049-406D-8B13-7B4D9BDB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08B-6787-4FB9-B1CF-27F21565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C37-2648-4DC0-8529-317E5A66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8A3-4577-4CB6-833C-29C92F0C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C44-F9C3-4A20-A3AA-B22431EE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7442-1327-4A0F-8FAD-926AA4ABEA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quatic Ecology:  Biodiversity in Aquatic Syst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easonal Changes in L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3800" y="1353960"/>
            <a:ext cx="281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pilim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4520" y="2406600"/>
            <a:ext cx="3117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rmoc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3800" y="3460680"/>
            <a:ext cx="3195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ypolim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4520" y="4513320"/>
            <a:ext cx="323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ll overt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3800" y="5567400"/>
            <a:ext cx="23565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ring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vert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456720" y="1314360"/>
            <a:ext cx="5687280" cy="5017680"/>
            <a:chOff x="3456720" y="1314360"/>
            <a:chExt cx="5687280" cy="5017680"/>
          </a:xfrm>
        </p:grpSpPr>
        <p:sp>
          <p:nvSpPr>
            <p:cNvPr id="255" name=""/>
            <p:cNvSpPr/>
            <p:nvPr/>
          </p:nvSpPr>
          <p:spPr>
            <a:xfrm>
              <a:off x="5533920" y="5792760"/>
              <a:ext cx="2668680" cy="324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6388200" y="1314360"/>
              <a:ext cx="2644560" cy="2135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3532320" y="1314360"/>
              <a:ext cx="2649240" cy="21448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3529080" y="3576600"/>
              <a:ext cx="2657520" cy="21448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59" name=""/>
            <p:cNvSpPr/>
            <p:nvPr/>
          </p:nvSpPr>
          <p:spPr>
            <a:xfrm>
              <a:off x="3792600" y="2419200"/>
              <a:ext cx="213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49520" y="2495520"/>
              <a:ext cx="96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pilimn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7880" y="2913120"/>
              <a:ext cx="110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limn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56720" y="3179880"/>
              <a:ext cx="108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rmoc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951360" y="2781000"/>
              <a:ext cx="398520" cy="3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33760" y="324324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m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70800" y="2419200"/>
              <a:ext cx="213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6392880" y="3568680"/>
              <a:ext cx="2649600" cy="2160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67" name=""/>
            <p:cNvSpPr/>
            <p:nvPr/>
          </p:nvSpPr>
          <p:spPr>
            <a:xfrm>
              <a:off x="6680160" y="4684680"/>
              <a:ext cx="2079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11680" y="4684680"/>
              <a:ext cx="213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78120" y="32432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ll overtu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70520" y="231768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2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40560" y="2428920"/>
              <a:ext cx="4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29320" y="253836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8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3880" y="2658960"/>
              <a:ext cx="4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08720" y="2779560"/>
              <a:ext cx="41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33840" y="2900520"/>
              <a:ext cx="41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69040" y="304956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70520" y="459900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40560" y="4711680"/>
              <a:ext cx="4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29320" y="482112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73880" y="4943520"/>
              <a:ext cx="41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08720" y="5062680"/>
              <a:ext cx="41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43560" y="53323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89560" y="5499000"/>
              <a:ext cx="65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32680" y="5499000"/>
              <a:ext cx="132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ring overtu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29640" y="459108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599320" y="470232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88440" y="481320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432640" y="493236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367840" y="505476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02680" y="532440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848200"/>
              <a:ext cx="21333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issolved O</a:t>
              </a:r>
              <a:r>
                <a:rPr b="1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concen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11680" y="5889600"/>
              <a:ext cx="335160" cy="139680"/>
            </a:xfrm>
            <a:prstGeom prst="rect">
              <a:avLst/>
            </a:prstGeom>
            <a:solidFill>
              <a:srgbClr val="00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21320" y="5889600"/>
              <a:ext cx="333360" cy="139680"/>
            </a:xfrm>
            <a:prstGeom prst="rect">
              <a:avLst/>
            </a:prstGeom>
            <a:solidFill>
              <a:srgbClr val="66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32560" y="5889600"/>
              <a:ext cx="335160" cy="139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25240" y="583236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16880" y="583236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di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49360" y="58323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720280" y="233532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89960" y="244620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78720" y="255744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23280" y="267804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58120" y="2798640"/>
              <a:ext cx="4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92960" y="3067200"/>
              <a:ext cx="4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˚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7543800" y="62229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16, p. 1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iver Sys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3280" y="1079640"/>
            <a:ext cx="2152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2560" y="1654200"/>
            <a:ext cx="299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88080" y="1081080"/>
            <a:ext cx="3918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ainage bas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87360" y="1654200"/>
            <a:ext cx="297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odpl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560" y="250812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in and s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040" y="466560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Z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6600" y="2446200"/>
            <a:ext cx="7881120" cy="4302360"/>
            <a:chOff x="66600" y="2446200"/>
            <a:chExt cx="7881120" cy="4302360"/>
          </a:xfrm>
        </p:grpSpPr>
        <p:sp>
          <p:nvSpPr>
            <p:cNvPr id="314" name=""/>
            <p:cNvSpPr/>
            <p:nvPr/>
          </p:nvSpPr>
          <p:spPr>
            <a:xfrm>
              <a:off x="66600" y="2446200"/>
              <a:ext cx="7851960" cy="430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157320" y="2560680"/>
              <a:ext cx="7699320" cy="41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 rot="2644200">
              <a:off x="588600" y="2917800"/>
              <a:ext cx="568440" cy="257040"/>
            </a:xfrm>
            <a:prstGeom prst="rightArrow">
              <a:avLst>
                <a:gd name="adj1" fmla="val 50000"/>
                <a:gd name="adj2" fmla="val 55287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4260600">
              <a:off x="6712920" y="5811480"/>
              <a:ext cx="487440" cy="258840"/>
            </a:xfrm>
            <a:prstGeom prst="rightArrow">
              <a:avLst>
                <a:gd name="adj1" fmla="val 50000"/>
                <a:gd name="adj2" fmla="val 47079"/>
              </a:avLst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804800">
              <a:off x="6791040" y="5702400"/>
              <a:ext cx="569880" cy="258840"/>
            </a:xfrm>
            <a:prstGeom prst="rightArrow">
              <a:avLst>
                <a:gd name="adj1" fmla="val 50000"/>
                <a:gd name="adj2" fmla="val 55042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71640" y="580860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39040" y="61848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di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38840" y="245412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3000" y="246528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ac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81560" y="2465280"/>
              <a:ext cx="77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pi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55240" y="2711520"/>
              <a:ext cx="93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terf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84160" y="2884320"/>
              <a:ext cx="95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ibut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29280" y="3056040"/>
              <a:ext cx="113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ood pl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05560" y="334656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bow l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55440" y="360504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lt mar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72640" y="396072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07560" y="3919680"/>
              <a:ext cx="7246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70360" y="4235400"/>
              <a:ext cx="10404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posi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di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531800" y="2735280"/>
              <a:ext cx="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1587600" y="2757600"/>
              <a:ext cx="1128600" cy="7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608120" y="2982600"/>
              <a:ext cx="1484280" cy="67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3308400" y="3154320"/>
              <a:ext cx="43956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619440" y="3336840"/>
              <a:ext cx="79524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770120" y="2735280"/>
              <a:ext cx="26820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00600" y="3873600"/>
              <a:ext cx="0" cy="178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469200" y="4228920"/>
              <a:ext cx="0" cy="11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899400" y="46371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629480" y="4186080"/>
              <a:ext cx="0" cy="8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973760" y="3595320"/>
              <a:ext cx="0" cy="16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93320" y="5216400"/>
              <a:ext cx="151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ition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93320" y="6097680"/>
              <a:ext cx="162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ood-Plain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773424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17, p. 1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nland Wetla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1520" y="1397160"/>
            <a:ext cx="8915400" cy="2322000"/>
            <a:chOff x="101520" y="1397160"/>
            <a:chExt cx="8915400" cy="2322000"/>
          </a:xfrm>
        </p:grpSpPr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101520" y="1730160"/>
              <a:ext cx="4364280" cy="19825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50" name=""/>
            <p:cNvSpPr/>
            <p:nvPr/>
          </p:nvSpPr>
          <p:spPr>
            <a:xfrm>
              <a:off x="1563120" y="1397160"/>
              <a:ext cx="144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airie Poth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60240" y="1411200"/>
              <a:ext cx="153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ypress swa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>
              <a:off x="4645080" y="1736640"/>
              <a:ext cx="4371840" cy="19825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grpSp>
        <p:nvGrpSpPr>
          <p:cNvPr id="353" name=""/>
          <p:cNvGrpSpPr/>
          <p:nvPr/>
        </p:nvGrpSpPr>
        <p:grpSpPr>
          <a:xfrm>
            <a:off x="2378160" y="4235400"/>
            <a:ext cx="4363920" cy="2311200"/>
            <a:chOff x="2378160" y="4235400"/>
            <a:chExt cx="4363920" cy="2311200"/>
          </a:xfrm>
        </p:grpSpPr>
        <p:sp>
          <p:nvSpPr>
            <p:cNvPr id="354" name=""/>
            <p:cNvSpPr/>
            <p:nvPr/>
          </p:nvSpPr>
          <p:spPr>
            <a:xfrm>
              <a:off x="3700440" y="4235400"/>
              <a:ext cx="171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reshwater mar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3"/>
            <a:stretch/>
          </p:blipFill>
          <p:spPr>
            <a:xfrm>
              <a:off x="2378160" y="4562280"/>
              <a:ext cx="4363920" cy="1984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sp>
        <p:nvSpPr>
          <p:cNvPr id="356" name=""/>
          <p:cNvSpPr/>
          <p:nvPr/>
        </p:nvSpPr>
        <p:spPr>
          <a:xfrm>
            <a:off x="7543800" y="62247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19, p. 1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stainability of Aquatic Life Zon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8160" y="1482840"/>
            <a:ext cx="542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ral reef de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6360" y="310824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8160" y="3922560"/>
            <a:ext cx="376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di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7080" y="4735440"/>
            <a:ext cx="3479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new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440" y="5549760"/>
            <a:ext cx="501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pur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6720" y="2295360"/>
            <a:ext cx="4866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ss of bio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20" y="1600200"/>
            <a:ext cx="8071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that influence aquatic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2200" y="2676600"/>
            <a:ext cx="441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ltwater life 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2560" y="3944880"/>
            <a:ext cx="476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eshwater life 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9680" y="5213520"/>
            <a:ext cx="7419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activities that affect aquatic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quatic Environments:  Types, Components, and Limiting Factor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560" y="1353960"/>
            <a:ext cx="369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rine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560" y="2062080"/>
            <a:ext cx="4478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eshwater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200" y="2770200"/>
            <a:ext cx="240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ank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9840" y="3479760"/>
            <a:ext cx="205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k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840" y="4187880"/>
            <a:ext cx="220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nth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8760" y="4896000"/>
            <a:ext cx="2751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uphotic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200" y="6154560"/>
            <a:ext cx="397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ssolved oxy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95680" y="2941560"/>
            <a:ext cx="6397560" cy="319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63" name=""/>
          <p:cNvGrpSpPr/>
          <p:nvPr/>
        </p:nvGrpSpPr>
        <p:grpSpPr>
          <a:xfrm>
            <a:off x="7613640" y="1590840"/>
            <a:ext cx="1476360" cy="1269720"/>
            <a:chOff x="7613640" y="1590840"/>
            <a:chExt cx="1476360" cy="1269720"/>
          </a:xfrm>
        </p:grpSpPr>
        <p:sp>
          <p:nvSpPr>
            <p:cNvPr id="64" name=""/>
            <p:cNvSpPr/>
            <p:nvPr/>
          </p:nvSpPr>
          <p:spPr>
            <a:xfrm>
              <a:off x="7613640" y="1590840"/>
              <a:ext cx="1451160" cy="12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7688520" y="1599840"/>
              <a:ext cx="1401480" cy="1254960"/>
              <a:chOff x="7688520" y="1599840"/>
              <a:chExt cx="1401480" cy="1254960"/>
            </a:xfrm>
          </p:grpSpPr>
          <p:sp>
            <p:nvSpPr>
              <p:cNvPr id="66" name=""/>
              <p:cNvSpPr/>
              <p:nvPr/>
            </p:nvSpPr>
            <p:spPr>
              <a:xfrm>
                <a:off x="7688520" y="1669680"/>
                <a:ext cx="341280" cy="155520"/>
              </a:xfrm>
              <a:prstGeom prst="rect">
                <a:avLst/>
              </a:prstGeom>
              <a:solidFill>
                <a:srgbClr val="00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688520" y="1987200"/>
                <a:ext cx="341280" cy="155520"/>
                <a:chOff x="7688520" y="1987200"/>
                <a:chExt cx="341280" cy="1555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688520" y="2022840"/>
                  <a:ext cx="335160" cy="111600"/>
                </a:xfrm>
                <a:custGeom>
                  <a:avLst/>
                  <a:gdLst/>
                  <a:ahLst/>
                  <a:rect l="l" t="t" r="r" b="b"/>
                  <a:pathLst>
                    <a:path w="330" h="115">
                      <a:moveTo>
                        <a:pt x="0" y="115"/>
                      </a:moveTo>
                      <a:cubicBezTo>
                        <a:pt x="21" y="83"/>
                        <a:pt x="11" y="71"/>
                        <a:pt x="48" y="59"/>
                      </a:cubicBezTo>
                      <a:cubicBezTo>
                        <a:pt x="92" y="70"/>
                        <a:pt x="83" y="82"/>
                        <a:pt x="120" y="107"/>
                      </a:cubicBezTo>
                      <a:cubicBezTo>
                        <a:pt x="162" y="92"/>
                        <a:pt x="139" y="106"/>
                        <a:pt x="176" y="51"/>
                      </a:cubicBezTo>
                      <a:cubicBezTo>
                        <a:pt x="181" y="43"/>
                        <a:pt x="186" y="35"/>
                        <a:pt x="192" y="27"/>
                      </a:cubicBezTo>
                      <a:cubicBezTo>
                        <a:pt x="197" y="19"/>
                        <a:pt x="208" y="3"/>
                        <a:pt x="208" y="3"/>
                      </a:cubicBezTo>
                      <a:cubicBezTo>
                        <a:pt x="265" y="22"/>
                        <a:pt x="214" y="47"/>
                        <a:pt x="272" y="67"/>
                      </a:cubicBezTo>
                      <a:cubicBezTo>
                        <a:pt x="287" y="20"/>
                        <a:pt x="267" y="63"/>
                        <a:pt x="304" y="27"/>
                      </a:cubicBezTo>
                      <a:cubicBezTo>
                        <a:pt x="330" y="0"/>
                        <a:pt x="307" y="3"/>
                        <a:pt x="328" y="3"/>
                      </a:cubicBezTo>
                    </a:path>
                  </a:pathLst>
                </a:custGeom>
                <a:noFill/>
                <a:ln w="2556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688520" y="1987200"/>
                  <a:ext cx="341280" cy="1555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7688520" y="2304720"/>
                <a:ext cx="341280" cy="15552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88520" y="2615760"/>
                <a:ext cx="341280" cy="155520"/>
              </a:xfrm>
              <a:prstGeom prst="rect">
                <a:avLst/>
              </a:prstGeom>
              <a:solidFill>
                <a:srgbClr val="ff99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026920" y="2547720"/>
                <a:ext cx="106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ngrov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026920" y="2236320"/>
                <a:ext cx="105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ral reef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028720" y="1920600"/>
                <a:ext cx="68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iv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028000" y="1599840"/>
                <a:ext cx="657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ak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2, p. 1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altwater Life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2000" y="1494000"/>
            <a:ext cx="338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astal z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2360" y="234144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stu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3080" y="3189240"/>
            <a:ext cx="431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astal wetl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1640" y="4038480"/>
            <a:ext cx="305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ngro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2720" y="4886280"/>
            <a:ext cx="4031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tidal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1640" y="5735520"/>
            <a:ext cx="389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rrier isl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ean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12800" y="1309680"/>
            <a:ext cx="7710480" cy="5173200"/>
            <a:chOff x="712800" y="1309680"/>
            <a:chExt cx="7710480" cy="5173200"/>
          </a:xfrm>
        </p:grpSpPr>
        <p:sp>
          <p:nvSpPr>
            <p:cNvPr id="88" name=""/>
            <p:cNvSpPr/>
            <p:nvPr/>
          </p:nvSpPr>
          <p:spPr>
            <a:xfrm>
              <a:off x="7165800" y="1333440"/>
              <a:ext cx="1257480" cy="513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44480" y="1333440"/>
              <a:ext cx="7360920" cy="5149440"/>
              <a:chOff x="744480" y="1333440"/>
              <a:chExt cx="7360920" cy="5149440"/>
            </a:xfrm>
          </p:grpSpPr>
          <p:pic>
            <p:nvPicPr>
              <p:cNvPr id="9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6000" y="1335960"/>
                <a:ext cx="7349400" cy="514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744480" y="1333440"/>
                <a:ext cx="6750720" cy="514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048680" y="131904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gh t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93120" y="1479240"/>
              <a:ext cx="79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w t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0560" y="162072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astal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824760" y="1498680"/>
              <a:ext cx="329760" cy="2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075680" y="1682640"/>
              <a:ext cx="328320" cy="26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85600" y="19486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69920" y="1960200"/>
              <a:ext cx="0" cy="66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2800" y="2617560"/>
              <a:ext cx="877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stuar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470960" y="1747440"/>
              <a:ext cx="4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027080" y="3095280"/>
              <a:ext cx="46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3640" y="3095280"/>
              <a:ext cx="4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40720" y="2900160"/>
              <a:ext cx="1018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ine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38240" y="2990520"/>
              <a:ext cx="0" cy="20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48040" y="1576080"/>
              <a:ext cx="46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16440" y="1456920"/>
              <a:ext cx="88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n 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17880" y="167472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a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40880" y="141408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95800" y="2379600"/>
              <a:ext cx="123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uphotic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39200" y="339876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thyal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65600" y="4547880"/>
              <a:ext cx="117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yssal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40000" y="441792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l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77200" y="3571560"/>
              <a:ext cx="101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ine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63600" y="1309680"/>
              <a:ext cx="79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pth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39840" y="1841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22960" y="195732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39120" y="22096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8760" y="258912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38760" y="295884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22960" y="306360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7599240" y="2362320"/>
              <a:ext cx="13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tosynthe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38760" y="334764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38400" y="370656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38400" y="407664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38400" y="444492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38400" y="483516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38400" y="520524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38400" y="559584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37680" y="596412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22960" y="423828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7809120" y="51678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rk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43800" y="6502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5, p. 1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ral Ree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050840" y="1255680"/>
            <a:ext cx="7035120" cy="5492880"/>
            <a:chOff x="1050840" y="1255680"/>
            <a:chExt cx="7035120" cy="54928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050840" y="1270080"/>
              <a:ext cx="4846680" cy="54784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37" name=""/>
            <p:cNvSpPr/>
            <p:nvPr/>
          </p:nvSpPr>
          <p:spPr>
            <a:xfrm>
              <a:off x="1617120" y="1255680"/>
              <a:ext cx="1211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ay reef sha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84520" y="1743120"/>
              <a:ext cx="8589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een se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t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40280" y="1704960"/>
              <a:ext cx="73656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a nett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65800" y="2658960"/>
              <a:ext cx="97128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airy bassl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71760" y="2979720"/>
              <a:ext cx="554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l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ang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32200" y="3681360"/>
              <a:ext cx="88272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rittle sta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94120" y="3814920"/>
              <a:ext cx="10782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anded co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hrim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75040" y="3390840"/>
              <a:ext cx="10764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geant maj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32120" y="3225960"/>
              <a:ext cx="8190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rrot fis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46240" y="3711600"/>
              <a:ext cx="9414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ard cora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10040" y="3711600"/>
              <a:ext cx="58104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lga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89280" y="4340160"/>
              <a:ext cx="117000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hytoplankt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60560" y="4586400"/>
              <a:ext cx="85140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ymbio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lga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89040" y="5159520"/>
              <a:ext cx="111456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Zooplankt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17640" y="5553000"/>
              <a:ext cx="922320" cy="22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pong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75480" y="6208560"/>
              <a:ext cx="734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acter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5821200"/>
              <a:ext cx="639720" cy="34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ora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46680" y="5232240"/>
              <a:ext cx="11174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lack bassl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81680" y="4600440"/>
              <a:ext cx="6332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e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82240" y="1539720"/>
              <a:ext cx="927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duc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o prim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nsu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81880" y="2830680"/>
              <a:ext cx="1131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o second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nsu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82240" y="4121280"/>
              <a:ext cx="1191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condary t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igher-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nsu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80800" y="5410080"/>
              <a:ext cx="1505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l consumer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ducer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compos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4880" y="1676520"/>
              <a:ext cx="560520" cy="279360"/>
            </a:xfrm>
            <a:prstGeom prst="rightArrow">
              <a:avLst>
                <a:gd name="adj1" fmla="val 50000"/>
                <a:gd name="adj2" fmla="val 50161"/>
              </a:avLst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14880" y="2965320"/>
              <a:ext cx="560520" cy="279360"/>
            </a:xfrm>
            <a:prstGeom prst="rightArrow">
              <a:avLst>
                <a:gd name="adj1" fmla="val 50000"/>
                <a:gd name="adj2" fmla="val 50161"/>
              </a:avLst>
            </a:prstGeom>
            <a:solidFill>
              <a:srgbClr val="ff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4880" y="4255920"/>
              <a:ext cx="560520" cy="279720"/>
            </a:xfrm>
            <a:prstGeom prst="rightArrow">
              <a:avLst>
                <a:gd name="adj1" fmla="val 50000"/>
                <a:gd name="adj2" fmla="val 50097"/>
              </a:avLst>
            </a:prstGeom>
            <a:solidFill>
              <a:srgbClr val="ff5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14880" y="5546880"/>
              <a:ext cx="560520" cy="279360"/>
            </a:xfrm>
            <a:prstGeom prst="rightArrow">
              <a:avLst>
                <a:gd name="adj1" fmla="val 50000"/>
                <a:gd name="adj2" fmla="val 50161"/>
              </a:avLst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543800" y="62229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13, p. 1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reshwater Life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2200" y="1271520"/>
            <a:ext cx="394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nding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74120" y="1273320"/>
            <a:ext cx="374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wing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27120" y="2052720"/>
            <a:ext cx="6843600" cy="4635360"/>
            <a:chOff x="627120" y="2052720"/>
            <a:chExt cx="6843600" cy="463536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627120" y="2052720"/>
              <a:ext cx="6843600" cy="46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687840" y="233208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l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4880" y="2717640"/>
              <a:ext cx="732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in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t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37120" y="2781360"/>
              <a:ext cx="622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o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9680" y="37260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n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10720" y="2822400"/>
              <a:ext cx="10875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ue-wing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79000" y="354168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usk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43440" y="538020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k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6160" y="6208560"/>
              <a:ext cx="823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rth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29120" y="6219720"/>
              <a:ext cx="110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oodwo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95280" y="6256440"/>
              <a:ext cx="6652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920" y="5272200"/>
              <a:ext cx="6469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et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41400" y="4502160"/>
              <a:ext cx="932040" cy="1411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ttoral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98640" y="5005440"/>
              <a:ext cx="119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mnetic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90000" y="5470560"/>
              <a:ext cx="128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fundal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05120" y="5935680"/>
              <a:ext cx="113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nthic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89240" y="6303960"/>
              <a:ext cx="70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852560" y="4916520"/>
              <a:ext cx="69840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376280" y="4735440"/>
              <a:ext cx="496800" cy="17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58800" y="3813120"/>
              <a:ext cx="344520" cy="47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588680" y="2589120"/>
              <a:ext cx="2298600" cy="2176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309840" y="2660760"/>
              <a:ext cx="689040" cy="254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81400" y="2639880"/>
              <a:ext cx="870120" cy="2743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72120" y="2548080"/>
              <a:ext cx="2187360" cy="2217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33560" y="3125880"/>
              <a:ext cx="1052640" cy="142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05200" y="3135240"/>
              <a:ext cx="303120" cy="116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425920" y="3236760"/>
              <a:ext cx="293760" cy="127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468840" y="3782880"/>
              <a:ext cx="212760" cy="28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6064200" y="4846680"/>
              <a:ext cx="55728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5335200" y="5200560"/>
              <a:ext cx="54612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543800" y="62229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14, p. 1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ypes of Lakes:  Oligotrophic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18200" y="3768840"/>
            <a:ext cx="0" cy="3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53240" y="3768840"/>
            <a:ext cx="0" cy="3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40520" y="3924360"/>
            <a:ext cx="579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65325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15, p. 1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63680" y="1271520"/>
            <a:ext cx="8215200" cy="5253120"/>
            <a:chOff x="463680" y="1271520"/>
            <a:chExt cx="8215200" cy="525312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05080" y="1271520"/>
              <a:ext cx="8173800" cy="52531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09" name=""/>
            <p:cNvSpPr/>
            <p:nvPr/>
          </p:nvSpPr>
          <p:spPr>
            <a:xfrm flipH="1">
              <a:off x="1442160" y="1862280"/>
              <a:ext cx="1392480" cy="2499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71800" y="1930320"/>
              <a:ext cx="33840" cy="2739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74400" y="1884600"/>
              <a:ext cx="1346760" cy="277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65840" y="1782360"/>
              <a:ext cx="4097520" cy="2396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50840" y="153828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l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86160" y="4284360"/>
              <a:ext cx="11988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mnetic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49760" y="4776840"/>
              <a:ext cx="12826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fundal 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3680" y="5758200"/>
              <a:ext cx="1133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nd, gravel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ck bott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8600" y="6203520"/>
              <a:ext cx="14792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ligotrophic L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17680" y="5034960"/>
              <a:ext cx="10479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arce fis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96960" y="3726720"/>
              <a:ext cx="17899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w concentration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rition and plank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80600" y="3641040"/>
              <a:ext cx="70668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rr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tto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46640" y="3779280"/>
              <a:ext cx="0" cy="331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97520" y="3779280"/>
              <a:ext cx="0" cy="331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69320" y="3939120"/>
              <a:ext cx="5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53160" y="4842360"/>
              <a:ext cx="94572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ep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lo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eli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50640" y="3688200"/>
              <a:ext cx="1003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ttle sh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ge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ypes of Lakes:  Eutrophic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43800" y="64818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7.15b, p. 1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17520" y="1246320"/>
            <a:ext cx="8502480" cy="5200560"/>
            <a:chOff x="317520" y="1246320"/>
            <a:chExt cx="8502480" cy="52005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317520" y="1246320"/>
              <a:ext cx="8502480" cy="52005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31" name=""/>
            <p:cNvSpPr/>
            <p:nvPr/>
          </p:nvSpPr>
          <p:spPr>
            <a:xfrm>
              <a:off x="6484680" y="159948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l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65720" y="3336120"/>
              <a:ext cx="1179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uch sh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ge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53840" y="3323880"/>
              <a:ext cx="1179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ch sh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ege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72120" y="3909600"/>
              <a:ext cx="22777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 concen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nutrition and plank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70720" y="3541680"/>
              <a:ext cx="72792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tto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57960" y="3787560"/>
              <a:ext cx="0" cy="727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16760" y="4417920"/>
              <a:ext cx="136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mnetic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19640" y="4417920"/>
              <a:ext cx="20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nse fish popu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23840" y="5240880"/>
              <a:ext cx="141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tly slo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orel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9960" y="5562720"/>
              <a:ext cx="118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lt, sand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ay 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8880" y="6063480"/>
              <a:ext cx="14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utrophic L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330920" y="1736640"/>
              <a:ext cx="4626720" cy="2932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562640" y="1903680"/>
              <a:ext cx="1466640" cy="308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077160" y="1963080"/>
              <a:ext cx="190800" cy="3028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5240" y="1903680"/>
              <a:ext cx="1395360" cy="2670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46080" y="4002120"/>
              <a:ext cx="157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Steven Bolinger</cp:lastModifiedBy>
  <dcterms:modified xsi:type="dcterms:W3CDTF">2001-08-16T19:30:25Z</dcterms:modified>
  <cp:revision>38</cp:revision>
  <dc:subject/>
  <dc:title>PowerPoint Presentation</dc:title>
</cp:coreProperties>
</file>